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5BB-E49E-47D4-BC7E-87F4DB5F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5E0-D8B0-451B-9D25-B0E6B7CA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070-0036-485E-A1C1-399FFA41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CD4-3877-4B29-B5D5-9E625C46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798B-2433-455A-B230-B3F43418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9F81-F394-4E5B-9FC5-8D00C3BF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10C7-BE7D-45D6-A818-C8FDC3ED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814C-1D9E-455C-BCC1-8353EF01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2C5B-4ACD-44F1-A489-049112D4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A5AF-D059-48E2-8F40-9789F8D2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2D18-7BBD-4905-B338-AEC92DE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C66-6BDA-42B0-81BE-9F6DE13F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3791-A587-4F53-B24E-340C1FE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9D91-7243-4680-ADF8-4B420707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AC2B-594A-4FFA-A70A-3338B0F5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E92D-21BA-48A9-83E6-5C8E7B62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314C-B75E-487F-B3D7-355B449E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17015-377E-41C3-B492-8333ED33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9548B-E068-40BA-A850-A6BE0AA5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A9648-75D7-4C78-AFA7-C3141AC3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7BBBE-68F0-443E-8B07-B8FDA5EF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A2A60-67C3-4F25-A074-74A025E8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A6B-669E-4D23-9813-D4D68E5C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7A1FE-776D-4D07-B504-58883E9F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14D53-3877-48FB-8D1B-D62AF100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0CEB6-9139-463F-9B2E-47116F55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C6F36-53E5-4534-9226-6D4D0EB5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0DBCC-CD99-41C8-A243-922ABD82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CC0A4-4DA0-4380-9CD4-CA0273D7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78546-72CA-4AD2-A375-D2BCDA70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85186C-F19D-48AC-A9D0-C7921472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A001D-F787-4812-BF76-166EF2CF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AFBB5-3587-4775-8D40-8D8ABDDF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01C-90C1-4CDC-B3B5-9525D005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26D65-8FB7-4BC7-9A21-364B1C38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E61B1-6A62-4C58-B9B1-9FAA0E62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95F830-B6E0-45DF-882F-4239BBEE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0FBCB-A1BB-4279-9549-546E8E34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8BB03-CE20-41A0-9AD4-39F904E9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5C729-2833-4A14-BB64-158C20C7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C8E72-2F06-43BC-8E3A-44114CEE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32640-E6C8-4BCD-B92F-8C4CF551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D62EF-573E-4A33-B3B0-265F9323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589CD-540A-4E77-96BA-AA94EDBC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AD5-005A-4EB3-A530-D6F7161A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3610A-7D1D-49BA-A4F7-CBF3A28B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29D8A-9044-443D-BFEC-32FEBC9B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83CEF-0183-4752-BD78-DDF818A8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33C74-43AF-4B25-8D13-9FCBC8B2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F2439-9B98-49EE-A8A1-420B49DF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57C05-2955-46D4-80BF-39F3E8B7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2FA75-875F-4CFB-9E38-FC0D52B3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2184B-5038-4458-81C2-CF19DFB2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5E192-7FEE-4B42-A600-285ED668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F25D3-1897-4F34-81C7-E8BD3374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312-4CBE-4BCD-8BD1-3FC445BB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1F9E8-8F0A-49DA-826A-43E968F9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CDE8F-C819-48FC-8823-DD56FF91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C372-B934-4B52-A894-B9204C91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96C3-54ED-4E90-AC6A-862A7672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C9ADF-F5DD-4831-ADEF-715F2DC5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2DFD-0741-403E-8F90-3368E5E3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8A2C5-6710-44B0-ADFD-D27F4F53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09501-FEAB-427A-AA66-1DA5A4EB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CA3A3-84EE-49E0-B696-9C1B7C08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65F5F-677A-4334-B7C4-F60CC60D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197-0F29-4FE9-A83F-E670FD7C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BF1F1-415E-4871-AC54-D8404CA5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66C3D-E980-4BE3-BB40-7C12D07E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A59FA-5566-4F78-AF2A-6EC24F17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E8A4D-E0F7-45C3-89FD-EC7FD2F2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F1CF0B-2DF4-4C35-9753-8305402A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EDC9DC-992B-400B-8F69-97EB5BF8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E174A-B971-4A39-A802-0EFB7701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B5033-9E28-4BDD-85D3-F1CD7106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50724-8E25-4498-A281-68953F4C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A970DE-9D71-4B44-92F3-082AA557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80B-5059-45CE-B6C1-EC3EA983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15EFB-CA31-41B5-A416-54EB40E2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1B4123-32FA-4A4F-9C52-4C4E254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A3675-9AF1-41B6-AFC1-9DB2F9FE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F1EB3-57DC-4F17-9092-1E30CC32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8B36F-685F-47DE-A9D2-A6229235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68E61-5C65-44F5-8924-9B5D142A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645AB-692C-440D-BED6-A0840ECC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3B8DD-B8EB-4702-8729-4111FEAC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1066-3551-46CA-8AC6-B6D7380F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22B50-A09F-4C9E-B159-6B698F5A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C5C-E280-49C7-B18E-95341253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211D2-ABF4-4133-83B2-E0255D16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E69F8-E7E2-4041-A2F1-A017893E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43A29-A9FE-414C-8D46-D5062C8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5547C-1582-4BCC-B986-047E3B71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1A13A-A740-4011-9ABA-4D4B6028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B3265-AA3D-4A81-8472-F6369A01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62A93-5E44-4979-B772-170E7C48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A25B0-BAFF-442E-A813-4BD6D7621C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2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edf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5edf4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d5edf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B103E-252B-4B27-854B-F69398566957}" type="slidenum">
              <a:rPr b="1" lang="en-US" sz="1400" spc="-1" strike="noStrike">
                <a:solidFill>
                  <a:srgbClr val="d5edf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91D4B-23A0-4DD2-8C0A-F2C5DD80441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B3018-AF7B-444D-B65F-1CDC065DD8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71E98-38CD-400A-BDA7-A9187340FD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AAF7B-57FC-4791-9E8E-6015B26B67A5}" type="slidenum">
              <a:rPr b="1" lang="en-US" sz="1400" spc="-1" strike="noStrike">
                <a:solidFill>
                  <a:srgbClr val="09213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79343-AF64-4D87-AC79-04C9861E36D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24370-7F41-457A-825E-74229426AB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edf4"/>
                </a:solidFill>
                <a:latin typeface="Tw Cen MT"/>
              </a:rPr>
              <a:t>Principles of Good Graphic Design</a:t>
            </a:r>
            <a:endParaRPr b="0" lang="en-US" sz="4400" spc="-1" strike="noStrike">
              <a:solidFill>
                <a:srgbClr val="d5edf4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igital Literac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Balanc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360" y="1600200"/>
            <a:ext cx="4629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the graphic elements (text, pictures, shapes) are visually even and come together seamlessly to the viewer’s ey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nbalance creates discomfort for viewers (unless that is the intention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Picture 5" descr="teeter-totter"/>
          <p:cNvPicPr/>
          <p:nvPr/>
        </p:nvPicPr>
        <p:blipFill>
          <a:blip r:embed="rId1"/>
          <a:stretch/>
        </p:blipFill>
        <p:spPr>
          <a:xfrm>
            <a:off x="5241960" y="1600200"/>
            <a:ext cx="3116160" cy="25416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http://www.logomyway.com/marketPlace/tatax_2150/Sustainable_Garden_Supply.png"/>
          <p:cNvPicPr/>
          <p:nvPr/>
        </p:nvPicPr>
        <p:blipFill>
          <a:blip r:embed="rId2"/>
          <a:stretch/>
        </p:blipFill>
        <p:spPr>
          <a:xfrm>
            <a:off x="5526000" y="4359240"/>
            <a:ext cx="28321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ymmetrical Balanc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wo sides of the design are more or less mirror images of each ot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iewers eyes are generally drawn to the element placed at the centre of the design and than flows to either si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vides stability, permanence and calm (not very exciting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8" name="Picture 5" descr="CANADA1199"/>
          <p:cNvPicPr/>
          <p:nvPr/>
        </p:nvPicPr>
        <p:blipFill>
          <a:blip r:embed="rId1"/>
          <a:stretch/>
        </p:blipFill>
        <p:spPr>
          <a:xfrm>
            <a:off x="4986360" y="4610160"/>
            <a:ext cx="351792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Asymmetrical Balanc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scribes a design in which the two sides are balanced, but not through the use of mirror imag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r more common and more interes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fficult to achieve bala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a large element will be balanced by two or more smaller ele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5" descr="subaru1"/>
          <p:cNvPicPr/>
          <p:nvPr/>
        </p:nvPicPr>
        <p:blipFill>
          <a:blip r:embed="rId1"/>
          <a:stretch/>
        </p:blipFill>
        <p:spPr>
          <a:xfrm>
            <a:off x="5673600" y="4775040"/>
            <a:ext cx="2740320" cy="1824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images.sixrevisions.com/2010/08/18-19_newpepsi.png"/>
          <p:cNvPicPr/>
          <p:nvPr/>
        </p:nvPicPr>
        <p:blipFill>
          <a:blip r:embed="rId2"/>
          <a:stretch/>
        </p:blipFill>
        <p:spPr>
          <a:xfrm>
            <a:off x="3322800" y="4775040"/>
            <a:ext cx="19335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Radial Balanc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mmetrical pattern resulting from placing similar elements around a central point (e.g. a daisy is said to have radial balance because all petals radiate from the centre of the flower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5" descr="3698782474_ef257695b7"/>
          <p:cNvPicPr/>
          <p:nvPr/>
        </p:nvPicPr>
        <p:blipFill>
          <a:blip r:embed="rId1"/>
          <a:stretch/>
        </p:blipFill>
        <p:spPr>
          <a:xfrm>
            <a:off x="4951440" y="3794040"/>
            <a:ext cx="3317760" cy="2581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mercedes-logo"/>
          <p:cNvPicPr/>
          <p:nvPr/>
        </p:nvPicPr>
        <p:blipFill>
          <a:blip r:embed="rId2"/>
          <a:stretch/>
        </p:blipFill>
        <p:spPr>
          <a:xfrm>
            <a:off x="2328840" y="3673440"/>
            <a:ext cx="2452680" cy="2452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http://upload.wikimedia.org/wikipedia/commons/thumb/9/9a/Target_logo.svg/432px-Target_logo.svg.png"/>
          <p:cNvPicPr/>
          <p:nvPr/>
        </p:nvPicPr>
        <p:blipFill>
          <a:blip r:embed="rId3"/>
          <a:stretch/>
        </p:blipFill>
        <p:spPr>
          <a:xfrm>
            <a:off x="258840" y="3794040"/>
            <a:ext cx="195408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ontras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489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Visual interest created by strategically placing objects, fonts, shapes, or textures that are opposites of one anoth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ize Variances – place large and small objects near each other to show relative importa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ype Choices – choose different fonts for headings and tex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lour Selection – place a light element on a dark background, or vice versa, to bring attention to that el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2326567057_ded1e66ce6"/>
          <p:cNvPicPr/>
          <p:nvPr/>
        </p:nvPicPr>
        <p:blipFill>
          <a:blip r:embed="rId1"/>
          <a:stretch/>
        </p:blipFill>
        <p:spPr>
          <a:xfrm>
            <a:off x="5695920" y="16002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onsistency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rmony, agreement, accorda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lance and uniform appeara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cognizable graphic elements includ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ypefa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xt align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lou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raphic images such as log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consistent elements of design for all items in promo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reating Consistency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4" name="Picture 5" descr="telus"/>
          <p:cNvPicPr/>
          <p:nvPr/>
        </p:nvPicPr>
        <p:blipFill>
          <a:blip r:embed="rId1"/>
          <a:stretch/>
        </p:blipFill>
        <p:spPr>
          <a:xfrm>
            <a:off x="3967200" y="4327560"/>
            <a:ext cx="4508640" cy="22129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rgins and page layout – use the same margins and alignment throughout a docu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nts – limit to two fonts – become recognizab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vigation (for websites) – keep tools in similar locations (back buttons, list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our – limit your palette to two or three colou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1:39:31Z</dcterms:created>
  <dc:creator>Office 2004 Test Drive User</dc:creator>
  <dc:description/>
  <dc:language>en-US</dc:language>
  <cp:lastModifiedBy>Katie</cp:lastModifiedBy>
  <dcterms:modified xsi:type="dcterms:W3CDTF">2015-12-16T02:13:12Z</dcterms:modified>
  <cp:revision>20</cp:revision>
  <dc:subject/>
  <dc:title>Unit 1</dc:title>
</cp:coreProperties>
</file>